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AC31-2ECE-414C-811A-1C21479D9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BC1F-6C4D-4E66-A9CA-3F991376F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349E-A7CB-42F2-B929-0EEFD6447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6293-0396-4023-8963-1DB7DAFA6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BBF19-BF2D-4515-AC7A-7FD9E24BB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30CAC-953C-44F7-91B9-1F0053BC4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CF181-294C-4007-AC41-BBBC41504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D325E-CAA6-499C-AB90-57D2FF20E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AAD96-9726-4FA7-8769-E23BE9E18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98667-8A09-49F7-8D6E-1156C106B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B409B-D92E-497C-A256-5D1D1B79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16C8-5A85-43BB-AA4C-E53ABAF61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CA3AD-C448-4B27-811F-08710B63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D387B-FFDA-4C4E-8DE4-DC5B9D11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968A0-7DFB-431A-ABD9-3833A7434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EC461-C9E4-4D25-B001-99D04DF92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2CD66-377E-4274-9525-7C925F30E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20C4-8C05-435E-9443-6B0717220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064E-C3F7-4259-A9D2-F61C4AD48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F23B-5FFE-41BE-B585-4B6B4A381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092F-02C0-48EE-9434-EF14CC197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348C-190A-44E1-9188-3DBE165B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04A3-E595-4135-B107-D0EF1ECA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2BA6-2897-45DC-9369-70F2CAE4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F1369-570D-4653-B7E1-72DDDBB1722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C2D8E-451D-43C5-8670-680370AE292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1332000" y="1644480"/>
          <a:ext cx="4214880" cy="488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644480"/>
                    <a:ext cx="4214880" cy="488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5640" y="342720"/>
            <a:ext cx="7488360" cy="1150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17 ГОД И ПЛАНОВЫЙ ПЕРИОД 2018-2019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6-10-31T06:13:30Z</dcterms:modified>
  <cp:revision>38</cp:revision>
  <dc:subject/>
  <dc:title>Структура собственных доходов на 2016 год бюджета Дальнереченского городского округа</dc:title>
</cp:coreProperties>
</file>